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jpeg" ContentType="image/jpeg"/>
  <Override PartName="/ppt/media/image33.jpeg" ContentType="image/jpeg"/>
  <Override PartName="/ppt/media/image9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1.jpeg" ContentType="image/jpeg"/>
  <Override PartName="/ppt/media/image4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7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4.png" ContentType="image/png"/>
  <Override PartName="/ppt/media/image36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084-0E75-44DC-BC15-ECDCB79A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1C9-9DF7-4BC1-A597-EF17ED69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E068D-9B1D-409E-945B-46E4B7C6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D2D3E-9FCE-4ECC-A071-12092059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EF51E-ECE5-465B-9684-3E6AE93C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639CA-233E-4BA5-B9B5-66907AEB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FD492-B081-469D-AC43-60A2B418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E425B-2313-49FC-98AA-3A5BD787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49AF5-E681-4917-A5B6-1467659B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FF57B-2FDE-4CD2-8310-C529CD23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5B2E0-64D4-4CA2-AA30-22B6F1AA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867-185E-4049-BE9E-F43B1D59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4CC-F2D1-4578-9869-4BB24427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0E9E-B063-4628-8AEF-8AD47F52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A3C6-3D05-4E67-8E1D-32B6C8D1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8D10-50DA-4244-AD9B-CE817BF8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9185-B88F-4268-BE02-41384241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09BC-E830-49CF-ABAE-77DE17F1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345E-5D89-42F8-863B-CA995286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947D-4641-4A7F-9554-560F1DC4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549-52CE-4E63-8163-529D025F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FF03-43F2-4B91-9898-B5DBE75D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FD96-428E-4DFB-BD85-476E5797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B057-BB34-44EA-8B17-ACF984CE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9A04-0626-479F-B0EB-BFF4CC78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B03E-5AC0-43C6-9626-CE7DFAAD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F7A1C-D1EA-4431-AD2E-038809BA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DB802-5467-4F3C-9029-8B5132BA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7DED8-F419-4863-BC50-81A3DF2A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CEBA4-34C5-41AB-B9E1-9C00D9EC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61F43-3370-4522-B4F9-AC0B2C2C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9F6-E6BA-4648-ACF3-D5A4FDC5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12FD2-5D1B-4C25-A9DF-15F0C5D6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93AFC-BEFA-4F72-A054-E8F8821E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40230-B7E1-43F1-A54F-C32B7D45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746CA-3E6E-40D7-A965-2CFF0A1E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CA225-1DB2-468A-B73D-7B33EE21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9B81E-5069-4969-8D06-A5D68199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40626-75AE-4D44-8807-ABAF9C28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EF670-714B-4208-8B6A-2F9461D4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B5A7F-7407-4BAA-B860-A0541982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B0648-7BC4-41B8-9C0F-A877C753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01C4-D55E-470D-A653-EBC220D6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4A7FA-A4AE-43D7-8093-0DC5AB81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851B9-CE6C-43E8-8AD9-A85BAD5D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26DDE-042C-469B-9182-350F4793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38843-2D10-46D0-AA4D-59DE5821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D23FE-FAFA-4115-A0CB-090148B4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8D8ED-F9C6-464D-96D8-8E71FF67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0D8DE-85A4-4FB1-B805-7075C002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0C6DD-5441-44AF-9F84-6FD400C6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74D4D-1DA8-470D-8ADB-A5CB9050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34A14-2BAB-4521-9A6C-B3A810FD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B2DE-8EE9-4215-B2EB-64ECA5A2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99BC9-2F87-4DE7-B6FB-8846045B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B8452-676D-44DA-AE54-37C42527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84DD5-1547-4A80-B5F1-28EDDBDB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B1CF0-3F18-44A2-8099-CAC1805E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3E3FD-977C-438C-8048-837E53B0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553B4-91B0-49F7-AA8D-A51BFF4C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E0371-1C29-49EB-9A42-1E8287D6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AAF50-FAA6-4A32-BE79-A26C99A8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5FBF6-4F28-4C55-BF4D-AE4A4A99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2E6C0-08AD-494F-BBE7-398F62CA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5174-3CF0-4B0A-9EB0-57C4A1C6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31B6B-A949-4F1C-8741-7CD7D8E8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BB562-B80E-436C-8B4D-83431507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59483-33E2-4C42-98C2-84CA171F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F6CAA-DC2A-40F0-8745-CD1400F3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1A1F4-A26C-414C-8CD3-020C2C61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713E7-867D-4582-A80D-0827521C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C1EA0-9561-49E9-BACC-7B2A0E00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B8354-A6C0-4DF8-B940-E41CF143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FCE3A-2CE7-47D9-814E-9433514E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62757-6DA0-437A-B884-CF425F28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B11C-275C-41EA-8FA9-53D73FEC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39046-99A8-49A0-9E3F-94768779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A901C-4CB8-46EB-9170-747ECF36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F6C95-828D-4E2F-8A19-C55CF681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6306B-BD4B-4AA1-80F1-A7F249C5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9F322-8F54-41EE-A851-1AFC3C92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2E4A8-353C-466B-9EF5-26125172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4EC6B-6B6C-4C0F-840A-C27620CD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B5589-851E-4A1A-9D2C-CF911FCE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A3411-2674-4770-8C4B-AAFACBD3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2F7A0-1509-4752-A215-ACE67A25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B74-1951-46B3-83DC-6B233705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9C6D8-C23A-4B86-8D90-1CDE7C94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E2083-8C31-4E47-861F-32677B7F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4D75E-1C50-4ED6-817E-959FFB96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66BD4-9BD2-4669-A29E-B1BC3BBB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6A462-D9D4-409B-AC33-E8EDF434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498F5-F6C8-4072-B253-90A3824A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2811B-4F17-4657-9ECD-E3F472C5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CCFA3-1559-462D-82F0-D698470A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8AE5C-C1F0-4E4A-A7BF-26D9B59B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327E5-4A11-470B-AFAB-1B3A7403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86D-3956-401E-A6AC-F536244F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F0449-041D-4897-8F34-8FD694AF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495D6-85B8-4933-B2DD-B7787072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09D87-2A6E-4A5B-879B-14A20D89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BD5BB-201C-4892-B945-D14CA915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45CEA-CAA2-4D41-B1EC-AAFBFD42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790AA-B925-4E38-A0E9-FB1A3317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A644D-E5B7-4373-B50A-A1EEF3EF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6AFC0-70FC-4832-A4D1-3E4E3CD0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B2526-DB3B-4F20-9EED-971334D4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F1C9C-2E33-47A8-9FA6-E6F597A1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F488-85DF-48B0-A1CC-895D74E4434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237E-23A7-4434-9139-2A7218B7142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4C95-01A6-4DD9-805B-53A99BB1589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EBA7-EFCD-414B-8303-2CD106546E7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3897-5B84-4758-8A32-CC3D682AD3F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5FA8-50A6-4970-8494-2EC30293BC6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20F1-B8EA-403E-AD2B-DEA35500B49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FF14-8C66-49B0-9F7F-DE7FE7B8FC9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0622-62B7-4508-8DFB-2258B5D7370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jmdesignsolutions.com/changes/images/index_r5_c3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8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8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8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682560" y="3322800"/>
            <a:ext cx="7785000" cy="2266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Franklin Gothic Book"/>
              </a:rPr>
              <a:t>Kristi Rey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Franklin Gothic Book"/>
              </a:rPr>
              <a:t>ESL Clas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Franklin Gothic Book"/>
              </a:rPr>
              <a:t>Spring 2008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5" descr="index_r5_c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380880"/>
            <a:ext cx="5639040" cy="3027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stan-2003-w-soccer-wallpaper"/>
          <p:cNvPicPr/>
          <p:nvPr/>
        </p:nvPicPr>
        <p:blipFill>
          <a:blip r:embed="rId3"/>
          <a:srcRect l="0" t="9646" r="0" b="0"/>
          <a:stretch/>
        </p:blipFill>
        <p:spPr>
          <a:xfrm>
            <a:off x="1219320" y="1600200"/>
            <a:ext cx="6999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HW_SH005-W"/>
          <p:cNvPicPr/>
          <p:nvPr/>
        </p:nvPicPr>
        <p:blipFill>
          <a:blip r:embed="rId3"/>
          <a:stretch/>
        </p:blipFill>
        <p:spPr>
          <a:xfrm>
            <a:off x="3276720" y="1676520"/>
            <a:ext cx="315432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158760" y="450720"/>
            <a:ext cx="8839080" cy="101304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showercat.jpg"/>
          <p:cNvPicPr/>
          <p:nvPr/>
        </p:nvPicPr>
        <p:blipFill>
          <a:blip r:embed="rId3"/>
          <a:stretch/>
        </p:blipFill>
        <p:spPr>
          <a:xfrm>
            <a:off x="1905120" y="1523880"/>
            <a:ext cx="548640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103320" y="-85680"/>
            <a:ext cx="8912160" cy="22384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C:\Documents and Settings\Kristi DeMersseman\Local Settings\Temporary Internet Files\Content.IE5\V9IKHK9K\MPj04231250000[1].jpg"/>
          <p:cNvPicPr/>
          <p:nvPr/>
        </p:nvPicPr>
        <p:blipFill>
          <a:blip r:embed="rId3"/>
          <a:stretch/>
        </p:blipFill>
        <p:spPr>
          <a:xfrm>
            <a:off x="2514600" y="1828800"/>
            <a:ext cx="461628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Flowchart: Punched Tape 6"/>
          <p:cNvSpPr/>
          <p:nvPr/>
        </p:nvSpPr>
        <p:spPr>
          <a:xfrm>
            <a:off x="380880" y="1600200"/>
            <a:ext cx="8229600" cy="4419720"/>
          </a:xfrm>
          <a:prstGeom prst="flowChartPunchedTape">
            <a:avLst/>
          </a:pr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5008"/>
                </a:solidFill>
                <a:latin typeface="Franklin Gothic Book"/>
              </a:rPr>
              <a:t>Life is short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5008"/>
                </a:solidFill>
                <a:latin typeface="Franklin Gothic Book"/>
              </a:rPr>
              <a:t>Work hard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5008"/>
                </a:solidFill>
                <a:latin typeface="Franklin Gothic Book"/>
              </a:rPr>
              <a:t>play hard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5008"/>
                </a:solidFill>
                <a:latin typeface="Franklin Gothic Book"/>
              </a:rPr>
              <a:t>enjo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index"/>
          <p:cNvPicPr/>
          <p:nvPr/>
        </p:nvPicPr>
        <p:blipFill>
          <a:blip r:embed="rId3"/>
          <a:stretch/>
        </p:blipFill>
        <p:spPr>
          <a:xfrm>
            <a:off x="2590920" y="16765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prop5557_22679"/>
          <p:cNvPicPr/>
          <p:nvPr/>
        </p:nvPicPr>
        <p:blipFill>
          <a:blip r:embed="rId3"/>
          <a:stretch/>
        </p:blipFill>
        <p:spPr>
          <a:xfrm>
            <a:off x="1371600" y="1447920"/>
            <a:ext cx="6477120" cy="4890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9047160" cy="16891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5"/>
          <p:cNvSpPr/>
          <p:nvPr/>
        </p:nvSpPr>
        <p:spPr>
          <a:xfrm>
            <a:off x="63360" y="0"/>
            <a:ext cx="5715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-295200" y="0"/>
            <a:ext cx="441000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3"/>
          <a:stretch/>
        </p:blipFill>
        <p:spPr>
          <a:xfrm>
            <a:off x="1447920" y="1523880"/>
            <a:ext cx="6400800" cy="4977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8894520" cy="16891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86000" y="1676520"/>
            <a:ext cx="4659480" cy="4809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8894520" cy="16891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boundarymapsml"/>
          <p:cNvPicPr/>
          <p:nvPr/>
        </p:nvPicPr>
        <p:blipFill>
          <a:blip r:embed="rId3"/>
          <a:stretch/>
        </p:blipFill>
        <p:spPr>
          <a:xfrm>
            <a:off x="0" y="1752480"/>
            <a:ext cx="4952880" cy="4630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toyotacarlsbad"/>
          <p:cNvPicPr/>
          <p:nvPr/>
        </p:nvPicPr>
        <p:blipFill>
          <a:blip r:embed="rId4"/>
          <a:stretch/>
        </p:blipFill>
        <p:spPr>
          <a:xfrm>
            <a:off x="4572000" y="1752480"/>
            <a:ext cx="4343400" cy="571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9" descr="logousa150-150"/>
          <p:cNvPicPr/>
          <p:nvPr/>
        </p:nvPicPr>
        <p:blipFill>
          <a:blip r:embed="rId5"/>
          <a:stretch/>
        </p:blipFill>
        <p:spPr>
          <a:xfrm>
            <a:off x="6095880" y="2438280"/>
            <a:ext cx="1981440" cy="19684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NAI Logo"/>
          <p:cNvPicPr/>
          <p:nvPr/>
        </p:nvPicPr>
        <p:blipFill>
          <a:blip r:embed="rId6"/>
          <a:stretch/>
        </p:blipFill>
        <p:spPr>
          <a:xfrm>
            <a:off x="5772240" y="4572000"/>
            <a:ext cx="1695240" cy="1905120"/>
          </a:xfrm>
          <a:prstGeom prst="rect">
            <a:avLst/>
          </a:prstGeom>
          <a:ln w="0">
            <a:noFill/>
          </a:ln>
        </p:spPr>
      </p:pic>
      <p:sp>
        <p:nvSpPr>
          <p:cNvPr id="421" name="Oval 12"/>
          <p:cNvSpPr/>
          <p:nvPr/>
        </p:nvSpPr>
        <p:spPr>
          <a:xfrm>
            <a:off x="76320" y="3276720"/>
            <a:ext cx="83808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3"/>
          <p:cNvSpPr/>
          <p:nvPr/>
        </p:nvSpPr>
        <p:spPr>
          <a:xfrm>
            <a:off x="533520" y="4343400"/>
            <a:ext cx="8380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5"/>
          <p:cNvSpPr/>
          <p:nvPr/>
        </p:nvSpPr>
        <p:spPr>
          <a:xfrm>
            <a:off x="457200" y="5867280"/>
            <a:ext cx="22096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MCC-Logo4"/>
          <p:cNvPicPr/>
          <p:nvPr/>
        </p:nvPicPr>
        <p:blipFill>
          <a:blip r:embed="rId3"/>
          <a:stretch/>
        </p:blipFill>
        <p:spPr>
          <a:xfrm>
            <a:off x="457200" y="1600200"/>
            <a:ext cx="1600200" cy="11192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CLC1"/>
          <p:cNvPicPr/>
          <p:nvPr/>
        </p:nvPicPr>
        <p:blipFill>
          <a:blip r:embed="rId4"/>
          <a:stretch/>
        </p:blipFill>
        <p:spPr>
          <a:xfrm>
            <a:off x="2209680" y="1523880"/>
            <a:ext cx="6629400" cy="498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8894520" cy="16891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Saint%20Malo%20Heather%20girl%20woman%20femalewalking%20on%20sandy%20Beach%20alone%20top%20view%20aerial"/>
          <p:cNvPicPr/>
          <p:nvPr/>
        </p:nvPicPr>
        <p:blipFill>
          <a:blip r:embed="rId3"/>
          <a:stretch/>
        </p:blipFill>
        <p:spPr>
          <a:xfrm>
            <a:off x="1600200" y="1600200"/>
            <a:ext cx="620064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158760" y="450720"/>
            <a:ext cx="8839080" cy="10130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soccer 007"/>
          <p:cNvPicPr/>
          <p:nvPr/>
        </p:nvPicPr>
        <p:blipFill>
          <a:blip r:embed="rId2"/>
          <a:stretch/>
        </p:blipFill>
        <p:spPr>
          <a:xfrm>
            <a:off x="2874960" y="1494000"/>
            <a:ext cx="3106800" cy="4983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9:39:23Z</dcterms:created>
  <dc:creator>Master_Image</dc:creator>
  <dc:description/>
  <dc:language>en-US</dc:language>
  <cp:lastModifiedBy>Kristi Reyes</cp:lastModifiedBy>
  <dcterms:modified xsi:type="dcterms:W3CDTF">2008-04-17T14:35:10Z</dcterms:modified>
  <cp:revision>8</cp:revision>
  <dc:subject/>
  <dc:title>Life Changes</dc:title>
</cp:coreProperties>
</file>